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B2EC-3328-4CC1-A1AB-E962F1B4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A7BD-FF8C-4B47-804B-57278965F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9132-F9BD-418B-880D-BE98D114C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D971-80A5-415B-8EBD-92C1B9F55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6FC5-A3E7-4F28-BF9C-0B2C6F6BE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1253-04FA-452A-957B-6A9A69BE3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935E-E6AC-4FB5-B46A-9704993E7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FA87-75F5-4A06-B99F-77F493511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2904-7C31-4799-94C1-F3964164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033-B568-4E6A-8B16-A72B6D71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859F-84C5-4A7D-B74D-103DDAB7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D83-F803-43B3-91AF-78172D60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9141-3258-4E38-A63F-0559DFA9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FAB-E6DD-4D72-A135-A9C825AB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AB9-63DE-45C0-98C7-F38631C3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7DC-0423-471F-A9F0-5F54D627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C9A-85BE-436B-BD1D-7E9A2340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8D2-FAA8-4BD0-8FE2-D9381A2B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1FCE-A491-40D7-B547-EBC01414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EDA1-5FC8-4E1A-A168-FD402EC8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F77E-46E4-47F8-99D3-748B8EDAA3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ct333-w08.wikispaces.com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1: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(25%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ch 29 in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 of MC, short answer, and longer/applied essay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about application than regurg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near the end on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istic, interdependent relations among these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in Human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re well versed in particular skill sets - whether they’re trained to be or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hines do some things extraordinarily well - and require a lot of effort to mimic human skills even parti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should speak to strengths of both - esp. when electronic technologies are embedded in physical spa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on PACT and general user experience design 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ight – first labs - intro to first assignment and first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agining the Audience in a Wired Wor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this even me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in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e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red Wor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it about u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ael J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izabeth Littlejoh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 and avail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Syllab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s/L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onal Inspiration Narrative (10%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kle’s Falling for Science – a collection of stories of technological objects and the attachments/inspirations people have received through their use/owner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3 pages in similar style – what technologies have inspired you?  Created awe? Intense attachments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related to other life moments – narrative should give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ory should be personal, enga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n. 25 – so give early thought to th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y/Task Analysis (10%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ly consider a job context - one you’re familiar with and/or can get access to internal dynam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chart - a holistic overview of related tasks and roles (specifics discussed in lab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sk analysis - a structured analysis of the execution of one task (flowchar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sk redefinition - fixing a task and explaining its iteration in activity flowch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Feb.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 Analysis (15%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icles and examples highlighted in labs (starting toda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 to consider posted – small reflection due a week from discussion 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miss one case – but do them regularly (it’s easily forgotten and hurts you badly if d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swers on your personal wiki personal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going – last case Mar. 15, last due date Mar. 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ct333-w10.wikispace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SLATE (why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ef intro/t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back and community building – 5% for project feedback (due Mar. 15) and 5% for community building (due Mar. 2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vious year wikis also available – handy to review work of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oject (30%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design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ation and research – this year based on sustainable development and sustainabili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enarios/requirements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of technology and its presentation/documentation (final – Mar. 22; interim deadlines through M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37:18Z</dcterms:created>
  <dc:creator/>
  <dc:description/>
  <dc:language>en-US</dc:language>
  <cp:lastModifiedBy>Sheridan College</cp:lastModifiedBy>
  <dcterms:modified xsi:type="dcterms:W3CDTF">2010-01-04T16:51:28Z</dcterms:modified>
  <cp:revision>10</cp:revision>
  <dc:subject/>
  <dc:title>CCT 333: Imagining the Audience in a Wired World</dc:title>
</cp:coreProperties>
</file>